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320" y="8728200"/>
            <a:ext cx="15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or’s 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59440" y="8731080"/>
            <a:ext cx="113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10.</a:t>
            </a:r>
            <a:fld id="{39029346-670C-4211-B5F7-A47BF6930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tudents to Chapter 1 in thei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discussing lead dust, talk about lead fumes resulting from heating or burning components painted with lead-based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“hand-to-mouth” action of a child and how this is a route of exposure for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lead abatement workers may ingest lead dust by smoking, eating, or drinking on a lead-abatement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the symptoms of lead poisoning are similar to those of fatigue, the common cold, flu, stress, food poisoning, etc.  Note:  The next chapter will cover these symptoms in greater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  Slides 11 &amp;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 sitting on sister’s lap.  Note the basket of cars in his l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  putting toy  into mouth—a normal activity for young children.  If the object has lead dust on it, the dust is now in the child’s mou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these occupations or hobbies may expose someone to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geographic locations of homes and components that are likely to contain lea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Lead-Based Paint Poisoning Prevention 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lead exposure can occur in any home regardless of the wealth, gender, or race of the occupants.  Also explain that home renovation may cause lead poisoning of a child if proper precautions are not 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the CPSC level (600 ppm) of lead in paint and the HUD level (5,000 ppm) of lead in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 - Peeling paint on the exterior wall of a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 - Window trough.  This is an area where one is most likely to find highest levels of lead dust generated by deteriorating lead-based paint.  Note:  This is also an impact and frictio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 - Peeling paint on the exterior wall of a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 - Window trough.  This is an area where one is most likely to find highest levels of lead dust generated by deteriorating lead-based paint.  Note:  This is also an impact and frictio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vailable literature on lead-based paint and lead hazards and where students can get a copy of the pamphlets listed in their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National Lead Information Center, The Lead Listing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tudents may have access to the Internet—instructors may provide them with the addresses of EPA, HUD, and other information provi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:  www.epa.gov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:  www.hud.gov/offices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Lead Information Center:  www.epa.gov/lead/nlic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 Listing:  www.leadlisting.org OR 1-888-LEAD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at aspects of each learning objective are important for the student to learn and under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lead was mined (as a byproduct of smelting sil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igin of the symbol for lead (Pb, from the Latin word for lead—“plumbum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ome of the historic uses of lead (solder, cosmetics, building materials, drinking water vessels, etc.) and why it was such a useful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  Slides 4-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106880" cy="3079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ore in its natural state. Called “gale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of items which could contain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tisement for paint produced by National Lead Company, one of the largest producers of lead-based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ederal definition of “lead-based paint.”  Explain that this level is only used for paint that is already on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the numbers 1.0 mg/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.5%, and 5,000 pp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at actions are recommended at these levels of lead if the paint is deteriorated, will be disturbed by renovation, or is creating lead d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at some of these sources are former sources of lead while others are current sources.  For example, lead in gasoline is no longer a major source in the U.S. but may have contributed to current levels of lead in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reasons that each of these sources may contain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ead-based paint deteriorates and results in lead d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2960" y="380880"/>
              <a:ext cx="8759880" cy="646452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738840" y="4114800"/>
              <a:ext cx="2032200" cy="2286000"/>
              <a:chOff x="6738840" y="4114800"/>
              <a:chExt cx="2032200" cy="2286000"/>
            </a:xfrm>
          </p:grpSpPr>
          <p:sp>
            <p:nvSpPr>
              <p:cNvPr id="4" name=""/>
              <p:cNvSpPr/>
              <p:nvPr/>
            </p:nvSpPr>
            <p:spPr>
              <a:xfrm>
                <a:off x="8636040" y="6248520"/>
                <a:ext cx="135000" cy="1522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64600" y="6248520"/>
                <a:ext cx="13644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94600" y="624852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823160" y="62485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51720" y="6248520"/>
                <a:ext cx="13644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81720" y="6248520"/>
                <a:ext cx="13500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010280" y="62485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738840" y="6248520"/>
                <a:ext cx="1368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6040" y="5943600"/>
                <a:ext cx="13500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636040" y="5638680"/>
                <a:ext cx="13500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636040" y="53341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6040" y="5029200"/>
                <a:ext cx="13500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636040" y="4724280"/>
                <a:ext cx="13500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636040" y="44197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6040" y="411480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20520"/>
            <a:ext cx="9137520" cy="6872040"/>
            <a:chOff x="0" y="-20520"/>
            <a:chExt cx="9137520" cy="6872040"/>
          </a:xfrm>
        </p:grpSpPr>
        <p:sp>
          <p:nvSpPr>
            <p:cNvPr id="63" name=""/>
            <p:cNvSpPr/>
            <p:nvPr/>
          </p:nvSpPr>
          <p:spPr>
            <a:xfrm>
              <a:off x="0" y="-20520"/>
              <a:ext cx="9137520" cy="687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960" y="662040"/>
              <a:ext cx="8759880" cy="535464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815160" y="3824280"/>
              <a:ext cx="2031840" cy="1943280"/>
              <a:chOff x="6815160" y="3824280"/>
              <a:chExt cx="2031840" cy="1943280"/>
            </a:xfrm>
          </p:grpSpPr>
          <p:sp>
            <p:nvSpPr>
              <p:cNvPr id="66" name=""/>
              <p:cNvSpPr/>
              <p:nvPr/>
            </p:nvSpPr>
            <p:spPr>
              <a:xfrm>
                <a:off x="8712360" y="5637240"/>
                <a:ext cx="134640" cy="1303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40560" y="5637240"/>
                <a:ext cx="13680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70920" y="5637240"/>
                <a:ext cx="135000" cy="13032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899480" y="5637240"/>
                <a:ext cx="135000" cy="130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28040" y="5637240"/>
                <a:ext cx="1364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58040" y="5637240"/>
                <a:ext cx="135000" cy="130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86600" y="5637240"/>
                <a:ext cx="135000" cy="1303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15160" y="5637240"/>
                <a:ext cx="1364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12360" y="5378400"/>
                <a:ext cx="13464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12360" y="5119560"/>
                <a:ext cx="134640" cy="128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12360" y="4861080"/>
                <a:ext cx="134640" cy="128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12360" y="4600440"/>
                <a:ext cx="1346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12360" y="4341960"/>
                <a:ext cx="134640" cy="1299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712360" y="4083120"/>
                <a:ext cx="134640" cy="1285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12360" y="3824280"/>
                <a:ext cx="1346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42960" y="966960"/>
              <a:ext cx="2031840" cy="2295360"/>
              <a:chOff x="642960" y="966960"/>
              <a:chExt cx="2031840" cy="2295360"/>
            </a:xfrm>
          </p:grpSpPr>
          <p:sp>
            <p:nvSpPr>
              <p:cNvPr id="82" name=""/>
              <p:cNvSpPr/>
              <p:nvPr/>
            </p:nvSpPr>
            <p:spPr>
              <a:xfrm>
                <a:off x="642960" y="966960"/>
                <a:ext cx="135000" cy="15372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2960" y="966960"/>
                <a:ext cx="13644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84400" y="966960"/>
                <a:ext cx="134640" cy="15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55840" y="966960"/>
                <a:ext cx="135000" cy="153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5480" y="966960"/>
                <a:ext cx="136800" cy="1537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96920" y="966960"/>
                <a:ext cx="13500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68360" y="966960"/>
                <a:ext cx="135000" cy="153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38360" y="966960"/>
                <a:ext cx="136440" cy="15372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2960" y="1273320"/>
                <a:ext cx="13500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960" y="157968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2960" y="188604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960" y="2190600"/>
                <a:ext cx="135000" cy="1540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2960" y="2496960"/>
                <a:ext cx="13500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2960" y="280368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2960" y="311004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Lead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is it Foun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Abat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orkers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ow You Can Be Exposed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dust particles, not even visible to the eye, can be breathed or swa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ing surfaces covered with lead dust may result in eating the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especially at risk for lead poisoning because they often put their fingers into their mou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 lead poisoning are the same as other common ill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423720"/>
            <a:ext cx="54118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59040" y="179280"/>
            <a:ext cx="54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obs and Hobbi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ith Lead Expos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trades (e.g., lead abatement workers, carpenters, plumbers, remodelers/renovators, painter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trades (e.g., lead miners, lead smelter workers, lead crystal maker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rades (e.g., firing range employees, police officers, artists, car mechanics, printers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Lead Problem in the U.S.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38 million homes contain lead-based paint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7% of homes built before 19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% of homes built between 1960-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containing more than 0.06% lead cannot be used in homes, on furniture, or on t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 are avail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ct Your Family From Lead in Your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me Water Treatment Units: Filtering Fact From F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 Paint Safety: A Field Guide for Painting, Home Maintenance, and Renovation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xics Information Series on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section you will lear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lead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lead wa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lead is foun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you can be exposed to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e lead paint problem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is Lea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s a heavy, soft, flexible, blue-gray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cal symbol for lead is “P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839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35320" y="46080"/>
            <a:ext cx="4449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ad-based paint is . . .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3619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, varnish, shellac, or other coating on surfaces that contain 1.0 m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more of lead or 0.5% (5,000 ppm) or more lead by weigh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y was lead use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revents cor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kills mold and mild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asy to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locks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locks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elps paint dry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adds color to and brightens 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ere is lead foun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o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13:57:49Z</dcterms:created>
  <dc:creator>Vicki Hanrahan Ainslie</dc:creator>
  <dc:description/>
  <cp:keywords/>
  <dc:language>en-US</dc:language>
  <cp:lastModifiedBy>13242</cp:lastModifiedBy>
  <cp:lastPrinted>1998-06-18T13:50:25Z</cp:lastPrinted>
  <dcterms:modified xsi:type="dcterms:W3CDTF">2004-05-24T16:07:29Z</dcterms:modified>
  <cp:revision>83</cp:revision>
  <dc:subject/>
  <dc:title>What is Lead?  Where is it Found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